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1F3-538E-4554-9BF2-21A8F32F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4C7-1500-48E8-97A8-62CCA1E7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8CE-1F66-46A5-B6C3-D6B65716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FA9-38D4-4171-AE46-DAEE7A1F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5CC-43BD-43B1-B525-3DAF3C2C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A06-8CF2-44EB-BECA-18AC1F3D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A81-379D-469C-831C-70A91136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3BA-347E-4ACF-9F51-AE41F171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BD1-2449-46D5-A91A-9F2564B0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07F-C4BF-41D3-AF6D-5D08CF97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7D7-1D8A-4934-BBC4-4AEAF2A7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590-1D04-4064-9574-0198E476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FC67-7011-4074-9776-529BAE59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BC8B-4FB5-4ACB-8A46-F530B2D7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EF52-3782-4A05-93FA-C862EEA0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6962-2469-4137-85EF-801FAB6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A9E7-DE1E-4BE8-9C2C-1527C87A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A37B-8DC1-4838-B095-0AF2C09B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6A5B-0CDB-4408-883E-D9E364FB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CAA4-1E5B-4271-9DE0-6883110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D242-9588-410A-84BA-7494EFD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5D72-D3B2-413E-81EE-29AA51A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6792-6FCC-4591-8A31-93C0A0E3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F658-1367-4555-8CE0-FABE2EE7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E98D-E065-4470-8B11-93098649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4D05-0A4B-47E3-9726-B9DE1CD7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353E-78CE-44BC-9279-14717563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3240D-AF57-4D7A-866F-0D1A0952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76C4-8BC6-47F9-B984-E7FF38B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2D12-06E0-4849-A15E-D3579FAF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BBB2-84BC-4831-8E50-324AF463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CC6F-88CD-4AAC-9AED-45459D03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34AF-EB4F-4009-BB41-5B157863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CCAC-D6AC-401C-9A96-B85D049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BA76-373E-414C-ADD3-5F5DD2C1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3D8A-AB45-4552-B0E0-82A8365F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E0EA-3F20-4CB5-AB4B-0AE86F00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2E1D-F5F0-43AF-801F-65C510D0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10E77-C023-472D-948A-D2CAA803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D7D0-DC09-4F54-B9DB-AAFC6742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8A22-E048-4F7D-B15F-03BC089E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799DF-BE0E-4EB9-9D19-E13A5A4C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330F8-5843-4247-AF60-E8C418A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D3D0-3708-4E81-B7A5-14DA79B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25B5-2BCA-4D61-B298-614BCBB8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9CC7-626D-4DA3-AA95-835B1A6E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F02A-D315-4C3D-A343-93FFD4C2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D7E7F-3693-4F1A-B39C-728F4531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CFA4D-AA71-48A5-9D8F-AF0958FA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284C-671C-43B0-959F-75FC46A6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C54B-3EFE-4552-AC91-6A83B946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A7F56-B657-45AA-BEF6-EE32BAE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A4494-54AF-4B57-BE95-D24A5D62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2925-2B31-4C79-BB42-E47C7AC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78364-C087-4CB3-8638-D387862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E8E5D-135E-4A80-A097-A93802E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6DE11-44F8-426B-A8E9-9D3C7A59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A46D2-1555-422F-A94F-F52BD55A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A4591-7A86-4494-9554-F502E1EC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9C419-FC4D-4C62-8A7F-050B45A9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FD4FF-6590-4077-8B7A-EE52D27D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26876-EF5F-45EE-A69A-D48DC4DC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56FEE-128B-4B1D-A9C5-FA36A7FD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7103A-962D-4267-9667-D5BB6389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45D7F-BDAB-459A-8A05-F6849FB3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073AE-968C-4F8B-949C-99716D6F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FE6AB-42BF-414A-947F-63918125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10D50-3F0A-44D7-8744-2D014019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E308-5FA8-4B1A-95C4-607A4C9C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5A297-D898-48D7-A253-6972C3DD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CE903-26F5-4485-8C94-CBD99C2A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2728-1DC8-47E6-AC40-4EC6932E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4401-DF92-4E01-93CF-27A23388B9A5}" type="slidenum">
              <a:rPr b="0" lang="id-ID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94E2-B96D-4E5E-8D4E-7FFEB4FB1630}" type="slidenum">
              <a:rPr b="0" lang="id-ID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7B1B-898A-4FA3-8E54-2A201B9C7EAE}" type="slidenum">
              <a:rPr b="0" lang="id-ID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BE3E-FFD5-4D9E-9890-4E3AB66D03D8}" type="slidenum">
              <a:rPr b="0" lang="id-ID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99E8-12A8-4808-B8C6-B05F4FE6BC5D}" type="slidenum">
              <a:rPr b="0" lang="id-ID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133D-9596-4DEC-A525-FDA224BBB54C}" type="slidenum">
              <a:rPr b="0" lang="id-ID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2" descr="ZoominArt BG FSP.png"/>
          <p:cNvPicPr/>
          <p:nvPr/>
        </p:nvPicPr>
        <p:blipFill>
          <a:blip r:embed="rId1"/>
          <a:srcRect l="12761" t="-2054" r="12992" b="4119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78" name="Subtitle 2"/>
          <p:cNvSpPr/>
          <p:nvPr/>
        </p:nvSpPr>
        <p:spPr>
          <a:xfrm>
            <a:off x="4756320" y="4365720"/>
            <a:ext cx="363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ubtitle 2"/>
          <p:cNvSpPr/>
          <p:nvPr/>
        </p:nvSpPr>
        <p:spPr>
          <a:xfrm>
            <a:off x="4714920" y="5000760"/>
            <a:ext cx="3921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ubtitle 2"/>
          <p:cNvSpPr/>
          <p:nvPr/>
        </p:nvSpPr>
        <p:spPr>
          <a:xfrm>
            <a:off x="1116000" y="4365720"/>
            <a:ext cx="363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Calibri"/>
              </a:rPr>
              <a:t>NAMA</a:t>
            </a: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 PES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ubtitle 2"/>
          <p:cNvSpPr/>
          <p:nvPr/>
        </p:nvSpPr>
        <p:spPr>
          <a:xfrm>
            <a:off x="1108080" y="5000760"/>
            <a:ext cx="363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Calibri"/>
              </a:rPr>
              <a:t>N I S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logo isi"/>
          <p:cNvPicPr/>
          <p:nvPr/>
        </p:nvPicPr>
        <p:blipFill>
          <a:blip r:embed="rId2"/>
          <a:stretch/>
        </p:blipFill>
        <p:spPr>
          <a:xfrm>
            <a:off x="2286000" y="50004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4"/>
          <p:cNvSpPr/>
          <p:nvPr/>
        </p:nvSpPr>
        <p:spPr>
          <a:xfrm>
            <a:off x="3708000" y="571680"/>
            <a:ext cx="40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TES SELEKSI MAND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PDD ISI SURAKARTA EM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SBI SULAWESI SELATAN 2023/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1332000" y="1916280"/>
            <a:ext cx="6264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7f7f7f"/>
                </a:solidFill>
                <a:latin typeface="Calibri"/>
              </a:rPr>
              <a:t>Hasil pindai (s</a:t>
            </a: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an</a:t>
            </a:r>
            <a:r>
              <a:rPr b="0" lang="id-ID" sz="3200" spc="-1" strike="noStrike">
                <a:solidFill>
                  <a:srgbClr val="7f7f7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7f7f7f"/>
                </a:solidFill>
                <a:latin typeface="Calibri"/>
              </a:rPr>
              <a:t>Tulisan berisi tentang pengalaman dan prestasi dalam bidang Seni Musik/Karawitan/Etnomusikolo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1332000" y="1916280"/>
            <a:ext cx="62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7f7f7f"/>
                </a:solidFill>
                <a:latin typeface="Calibri"/>
              </a:rPr>
              <a:t>Hasil pindai (s</a:t>
            </a: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an</a:t>
            </a:r>
            <a:r>
              <a:rPr b="0" lang="id-ID" sz="3200" spc="-1" strike="noStrike">
                <a:solidFill>
                  <a:srgbClr val="7f7f7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800" spc="-1" strike="noStrike">
                <a:solidFill>
                  <a:srgbClr val="7f7f7f"/>
                </a:solidFill>
                <a:latin typeface="Calibri"/>
              </a:rPr>
              <a:t>Bukti Prest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1365120" y="380844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595959"/>
                </a:solidFill>
                <a:latin typeface="Calibri"/>
                <a:ea typeface="Calibri"/>
              </a:rPr>
              <a:t>Bagi peserta yang memiliki bukti prestasi </a:t>
            </a:r>
            <a:r>
              <a:rPr b="1" i="1" lang="id-ID" sz="1800" spc="-1" strike="noStrike">
                <a:solidFill>
                  <a:srgbClr val="595959"/>
                </a:solidFill>
                <a:latin typeface="Calibri"/>
                <a:ea typeface="Calibri"/>
              </a:rPr>
              <a:t>disarankan</a:t>
            </a:r>
            <a:r>
              <a:rPr b="0" i="1" lang="id-ID" sz="1800" spc="-1" strike="noStrike">
                <a:solidFill>
                  <a:srgbClr val="595959"/>
                </a:solidFill>
                <a:latin typeface="Calibri"/>
                <a:ea typeface="Calibri"/>
              </a:rPr>
              <a:t> untuk menyertakan scan bukti sertifikat, piagam, surat keterangan, dan alamat link unggah karya di media seperti youtube, facebook, twitter, blog, atau laman web (jika ad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1332000" y="270828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7f7f7f"/>
                </a:solidFill>
                <a:latin typeface="Calibri"/>
              </a:rPr>
              <a:t>Hasil pindai (s</a:t>
            </a: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an</a:t>
            </a:r>
            <a:r>
              <a:rPr b="0" lang="id-ID" sz="3200" spc="-1" strike="noStrike">
                <a:solidFill>
                  <a:srgbClr val="7f7f7f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7f7f7f"/>
                </a:solidFill>
                <a:latin typeface="Calibri"/>
              </a:rPr>
              <a:t>Tulisan berisi motivasi dan tujuan memilih prodi</a:t>
            </a: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 T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619280" y="2133720"/>
            <a:ext cx="58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7f7f7f"/>
                </a:solidFill>
                <a:latin typeface="Calibri"/>
              </a:rPr>
              <a:t>Hasil pindai (sca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surat pernyataan peserta </a:t>
            </a: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yang telah diisi lengkap, ditandatangani oleh sisw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(di atas mater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irham pta</cp:lastModifiedBy>
  <dcterms:modified xsi:type="dcterms:W3CDTF">2023-03-01T06:04:53Z</dcterms:modified>
  <cp:revision>29</cp:revision>
  <dc:subject/>
  <dc:title>Slide 1</dc:title>
</cp:coreProperties>
</file>